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955-3C9A-4457-AA9B-F8AD0BD5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51B-6350-4C15-8B98-2A6A9EF9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9D1-8D5A-489E-8582-B80885EC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016-8344-4338-B09C-1DB4E5F5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7D0-79FB-4F00-B42F-5B848BAF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2E5-55B6-4513-8A47-5708EF9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C3A-9DCA-46F9-8CBA-F0A7BD0F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5A4-7C0F-4D01-8867-C619CB98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FDA-C3E8-4D37-BC24-CEFECA86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2F0-A465-4909-8810-4FF37B5C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77A-CBC4-439B-8637-8575A30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24D-689F-40DE-A800-0A5D6A8C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AA78-CE38-442F-8061-2351B7EA2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16732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90920" y="6477120"/>
            <a:ext cx="1582560" cy="237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43200" y="3581280"/>
            <a:ext cx="1457280" cy="2189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3886200"/>
            <a:ext cx="2041560" cy="136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952880" y="457200"/>
            <a:ext cx="1544760" cy="23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04920" y="7086600"/>
            <a:ext cx="180000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514600" y="812880"/>
            <a:ext cx="1981080" cy="15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029200" y="6400800"/>
            <a:ext cx="153036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6477120"/>
            <a:ext cx="1528920" cy="23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34308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172692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7240" y="396252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590920" y="3657600"/>
            <a:ext cx="168120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105520" y="382680"/>
            <a:ext cx="1519200" cy="228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666880" y="6400800"/>
            <a:ext cx="1582920" cy="2378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076720" y="6477120"/>
            <a:ext cx="162900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438280" y="91440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649520" cy="246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90920" y="304920"/>
            <a:ext cx="174924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952880" y="380880"/>
            <a:ext cx="1560600" cy="2343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4920" y="3352680"/>
            <a:ext cx="1697040" cy="254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1238040" cy="256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181480" y="3657600"/>
            <a:ext cx="1590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10T22:52:20Z</dcterms:modified>
  <cp:revision>9</cp:revision>
  <dc:subject/>
  <dc:title>Slide 1</dc:title>
</cp:coreProperties>
</file>